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A7D-E3D3-498E-AF6A-DE8F075B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634-97D8-4EEF-A6EA-152881F5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CD9-F7C6-4C95-BBB7-8A568DE4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5E3-E0A2-4868-A1DF-C9269EC2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F3F5-E7FF-45C6-A0B1-4B1A034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A23-A61C-45A0-86F7-D0FF8342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268-689E-4F1F-A472-95554E02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E40-EF86-40B5-8476-45710D8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BD2-4899-43C6-87B4-D9905AFF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6AA-95A6-4FA5-9944-3F453E79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1A6C-D72C-46BC-B7BF-79A0561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479-3225-47FD-8DDD-EF24F166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8D8A-1509-4B77-B54E-1D8EA146A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ctor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-ma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nternet relay chat was developed in 1988 by Jarkko Oikarinen and allows instant online communicating with someone else who is also online by typing messages back and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ypertext transfer protocol is used for handling the transmission of pages between a web server and a web brow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File transfer protocol is used to rapidly transfer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program used on networks such as the internet to allow users to remotely log on to a server on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0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2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p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ne of the first widespread internet browsing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used by a single organization and only accessible by authoriz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ew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trane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n extended intranet that provides various level of access to authorized members of the 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nline Profilin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marketing technique that collects online data about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oki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Usene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Bandwidth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The amount of data and the speed at which the data can travel over the transmission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Client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A computer that accesses a server to request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DSL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Digital subscriber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Ethernet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widely used protocol for LANs that uses a bus or star topology and connects the network devices by twisted-pair wiring, coaxial cable, or fiber optic c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Netiquette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The etiquette that should be followed when using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otocol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opolog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he logical arrangement of the nodes on a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ireless Network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A type of network that does not require the use of c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etwork Interface Card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 A circuit board that goes into the base unit of a computer or other device in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Arial"/>
              </a:rPr>
              <a:t>ISP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: Internet service provider is a company that offers access to the internet for a f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Web Sites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: A series of related web p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0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53:13Z</dcterms:created>
  <dc:creator>762923</dc:creator>
  <dc:description/>
  <dc:language>en-US</dc:language>
  <cp:lastModifiedBy>762923</cp:lastModifiedBy>
  <dcterms:modified xsi:type="dcterms:W3CDTF">2009-04-17T15:56:57Z</dcterms:modified>
  <cp:revision>4</cp:revision>
  <dc:subject/>
  <dc:title>Vocabulary</dc:title>
</cp:coreProperties>
</file>